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3A9C-136F-4671-8A51-3C54ED0CFC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5955-65AA-43E3-871C-4F5565F0AD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2CF5-1F99-4039-8624-3CF7492D78A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03B8-D98E-4653-A89A-9F6B568DD6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A81B-E4BB-478F-90BC-CD56983C0B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95E1-587B-4D51-8B6B-42EEEFF88E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45A0-604F-4444-B6FE-167992F0B1A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9A08-1F18-49B3-AF2B-7AF87EE08D8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7C51-2FEB-43D3-94CE-1BE0C617097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50EC-0D3C-4884-92B3-957F695C03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7102-E43C-4738-8E01-1F364D2684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AD57-0855-4AC3-976C-F9698D44FFD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A20A-A67A-4BDF-906C-F3C0A504FA9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9381-AA1B-4318-9588-696FE8863F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82D8-C8D9-46F8-8D3D-E68CB3496A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C357-AB76-401E-8BE8-D63FE852D38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93C8-2CD7-42C3-AC3A-09E54B05051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C424-2EAF-455A-83D9-2B32014C27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CFBB-7827-4DA2-905A-0B426C4B84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FD92-5BDE-4520-A28E-5F8E5DD73CE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C4DF-E1AE-430E-A1B4-E0948986EE7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7FF8-43C1-40B3-8FCF-BB5736000A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D353-9CEE-4F82-BD2D-1F7448A6839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97AA-0124-4E83-BE99-D9CF821F70B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F26-BA46-442B-A8F9-7DBC224A6D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7762-CDCD-4173-BA95-D283613E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BEA-C776-4733-AB3C-B9377E64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16F-7212-4ECA-AEFA-B3581F64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806-611A-4CAB-B928-028D11AE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6E1-3ADE-4B6B-9A62-8F84B8FE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D74A-F99E-481B-8739-18D7D173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A0F-4F69-4E5B-A118-3B67AF84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C14-2B2A-4D33-A40C-910F812C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ABD-0874-4271-B25F-9A71999A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27C2-F57A-48E8-A5BD-16813F39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12B-ECEF-45CF-824F-9B570965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365-3B18-4E90-9121-14671919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7823-6FA1-4AE0-B649-5FAAC2F1D12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8F43-B201-470A-B314-6B809809B69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611280" y="2565360"/>
            <a:ext cx="7921440" cy="424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a50021"/>
                </a:solidFill>
                <a:latin typeface="Century Gothic"/>
              </a:rPr>
              <a:t>UNIVERSIDAD RICARDO PALMA</a:t>
            </a:r>
            <a:br>
              <a:rPr sz="4000"/>
            </a:br>
            <a:r>
              <a:rPr b="1" lang="es-MX" sz="4000" spc="-1" strike="noStrike">
                <a:solidFill>
                  <a:srgbClr val="a50021"/>
                </a:solidFill>
                <a:latin typeface="Century Gothic"/>
              </a:rPr>
              <a:t> </a:t>
            </a:r>
            <a:r>
              <a:rPr b="1" lang="es-MX" sz="4000" spc="-1" strike="noStrike">
                <a:solidFill>
                  <a:srgbClr val="000000"/>
                </a:solidFill>
                <a:latin typeface="Arial Narrow"/>
              </a:rPr>
              <a:t>ESCUELA DE POST GRADO</a:t>
            </a:r>
            <a:br>
              <a:rPr sz="40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s-MX" sz="4000" spc="-1" strike="noStrike" u="sng">
                <a:solidFill>
                  <a:srgbClr val="000099"/>
                </a:solidFill>
                <a:uFillTx/>
                <a:latin typeface="Trebuchet MS"/>
              </a:rPr>
              <a:t>PSICOLOGÍA EDUCATIVA</a:t>
            </a:r>
            <a:br>
              <a:rPr sz="4000"/>
            </a:br>
            <a:r>
              <a:rPr b="1" lang="es-MX" sz="4000" spc="-1" strike="noStrike">
                <a:solidFill>
                  <a:srgbClr val="a50021"/>
                </a:solidFill>
                <a:latin typeface="Trebuchet MS"/>
              </a:rPr>
              <a:t>UNIDAD IV</a:t>
            </a:r>
            <a:br>
              <a:rPr sz="4000"/>
            </a:br>
            <a:r>
              <a:rPr b="1" lang="es-MX" sz="4000" spc="-1" strike="noStrike">
                <a:solidFill>
                  <a:srgbClr val="a50021"/>
                </a:solidFill>
                <a:latin typeface="Trebuchet MS"/>
              </a:rPr>
              <a:t> </a:t>
            </a:r>
            <a:r>
              <a:rPr b="1" lang="es-ES" sz="2800" spc="-1" strike="noStrike">
                <a:solidFill>
                  <a:srgbClr val="a50021"/>
                </a:solidFill>
                <a:latin typeface="Georgia"/>
              </a:rPr>
              <a:t>TIPOS DE APRENDIZAJE Y PROCESOS PSICOLÓGICOS EN EL APRENDIZAJE</a:t>
            </a:r>
            <a:br>
              <a:rPr sz="2800"/>
            </a:br>
            <a:br>
              <a:rPr sz="3600"/>
            </a:br>
            <a:r>
              <a:rPr b="1" lang="es-MX" sz="3600" spc="-1" strike="noStrike">
                <a:solidFill>
                  <a:srgbClr val="000099"/>
                </a:solidFill>
                <a:latin typeface="Georgia"/>
              </a:rPr>
              <a:t>Profesor:</a:t>
            </a:r>
            <a:r>
              <a:rPr b="1" lang="es-MX" sz="3600" spc="-1" strike="noStrike">
                <a:solidFill>
                  <a:srgbClr val="000099"/>
                </a:solidFill>
                <a:latin typeface="Georgia"/>
              </a:rPr>
              <a:t>	</a:t>
            </a:r>
            <a:r>
              <a:rPr b="1" lang="es-MX" sz="3600" spc="-1" strike="noStrike">
                <a:solidFill>
                  <a:srgbClr val="000099"/>
                </a:solidFill>
                <a:latin typeface="Georgia"/>
              </a:rPr>
              <a:t>Dr. José Anicama 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5 CuadroTexto"/>
          <p:cNvSpPr/>
          <p:nvPr/>
        </p:nvSpPr>
        <p:spPr>
          <a:xfrm>
            <a:off x="2928960" y="6000840"/>
            <a:ext cx="271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4400" spc="-1" strike="noStrike">
                <a:solidFill>
                  <a:srgbClr val="262699"/>
                </a:solidFill>
                <a:latin typeface="Times New Roman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1EA1-618E-4FE6-B741-F635DD53B6E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2.1. La </a:t>
            </a:r>
            <a:r>
              <a:rPr b="1" lang="es-ES_tradnl" sz="2800" spc="-1" strike="noStrike" u="sng">
                <a:solidFill>
                  <a:srgbClr val="003300"/>
                </a:solidFill>
                <a:uFillTx/>
                <a:latin typeface="Arial Narrow"/>
              </a:rPr>
              <a:t>conducta operante</a:t>
            </a:r>
            <a:r>
              <a:rPr b="1" lang="es-ES_tradnl" sz="2800" spc="-1" strike="noStrike">
                <a:solidFill>
                  <a:srgbClr val="003300"/>
                </a:solidFill>
                <a:latin typeface="Arial Narrow"/>
              </a:rPr>
              <a:t> no se da automáticamente con el estímulo, una forma de conseguirla es esperar que los sujetos emitan por casualidad la respuesta deseada, disponiendo de algunos medios (como la motivación para  acelerar el proces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es-PE" sz="2400" spc="-1" strike="noStrike">
                <a:solidFill>
                  <a:srgbClr val="800000"/>
                </a:solidFill>
                <a:latin typeface="Arial"/>
              </a:rPr>
              <a:t>Caja de tru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s-PE" sz="2400" spc="-1" strike="noStrike">
                <a:solidFill>
                  <a:srgbClr val="800000"/>
                </a:solidFill>
                <a:latin typeface="Arial"/>
              </a:rPr>
              <a:t>de Thornd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caja"/>
          <p:cNvPicPr/>
          <p:nvPr/>
        </p:nvPicPr>
        <p:blipFill>
          <a:blip r:embed="rId1"/>
          <a:stretch/>
        </p:blipFill>
        <p:spPr>
          <a:xfrm>
            <a:off x="2666880" y="2209680"/>
            <a:ext cx="6019920" cy="4100760"/>
          </a:xfrm>
          <a:prstGeom prst="rect">
            <a:avLst/>
          </a:prstGeom>
          <a:ln w="0">
            <a:noFill/>
          </a:ln>
        </p:spPr>
      </p:pic>
      <p:sp>
        <p:nvSpPr>
          <p:cNvPr id="8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03C1-4C9E-40ED-A847-AE916910A06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"/>
              </a:rPr>
              <a:t>2.2. Caja de Skin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paloma"/>
          <p:cNvPicPr/>
          <p:nvPr/>
        </p:nvPicPr>
        <p:blipFill>
          <a:blip r:embed="rId1"/>
          <a:stretch/>
        </p:blipFill>
        <p:spPr>
          <a:xfrm>
            <a:off x="685800" y="838080"/>
            <a:ext cx="7620120" cy="5410440"/>
          </a:xfrm>
          <a:prstGeom prst="rect">
            <a:avLst/>
          </a:prstGeom>
          <a:ln w="0">
            <a:noFill/>
          </a:ln>
        </p:spPr>
      </p:pic>
      <p:sp>
        <p:nvSpPr>
          <p:cNvPr id="9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8D51-B04B-4360-B3E0-ADECCE80A8A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304920"/>
            <a:ext cx="861048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609480" y="914400"/>
          <a:ext cx="8001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914400"/>
                    <a:ext cx="8001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BEFD-3807-43EB-B671-4F0B4E35609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49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En suma, el </a:t>
            </a:r>
            <a:r>
              <a:rPr b="1" lang="es-ES_tradnl" sz="3600" spc="-1" strike="noStrike" u="sng">
                <a:solidFill>
                  <a:srgbClr val="800000"/>
                </a:solidFill>
                <a:uFillTx/>
                <a:latin typeface="Arial Narrow"/>
              </a:rPr>
              <a:t>Condicionamiento Operante</a:t>
            </a: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 se define com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s-ES_tradnl" sz="3600" spc="-1" strike="noStrike">
                <a:solidFill>
                  <a:srgbClr val="000000"/>
                </a:solidFill>
                <a:latin typeface="Arial Narrow"/>
              </a:rPr>
              <a:t>El tipo de aprendizaje en el cual la conducta voluntaria deseada se premia y se ignoran o castigan los actos o comportamientos no deseado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62120" y="1219320"/>
            <a:ext cx="7543800" cy="44956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016F-F10C-4D8E-9936-9F3F891C5B5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1048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Narrow"/>
              </a:rPr>
              <a:t>III. CONDICIONAMIENTO OBSERV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Narrow"/>
              </a:rPr>
              <a:t>(BANDUR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380880" y="1447920"/>
          <a:ext cx="83822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3822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69DB-2052-4AF8-85F5-E20AB1C13C9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610480" cy="60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 Narrow"/>
              </a:rPr>
              <a:t>Este aprendizaje se basa en la IMITACION O MODE-LAMIENTO  y en las consecuencias de la conducta que se observa en un individuo (reforzam. vicar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Potenciadores de la imi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 Narrow"/>
              </a:rPr>
              <a:t>1. Las características del 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 Narrow"/>
              </a:rPr>
              <a:t>2. Las características de las situaciones a mode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 Narrow"/>
              </a:rPr>
              <a:t>3. Las características del observador (adiestra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Etapas del modela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Arial Narrow"/>
              </a:rPr>
              <a:t>Atención  -  Retención  -  Re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EBAA-FBFA-4DAE-A223-A20E8758F94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"/>
              </a:rPr>
              <a:t>OBJETIVO N°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ISCRIMINAR LOS PROCES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ASICOS Y PSICOLÓGICOS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NTERVIENEN EN EL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4 Marcador de pie de página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273A-ED42-4E42-BA1B-0CF498B2A8F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 Narrow"/>
              </a:rPr>
              <a:t>Procesos básicos que intervienen en el aprendizaje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1.  El reforzamiento</a:t>
            </a: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ositivo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Clases de refuer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Neg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Primari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Tipos de refuerzo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Secund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3809880" y="2819520"/>
            <a:ext cx="1676520" cy="60948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 flipV="1">
            <a:off x="3809880" y="2133360"/>
            <a:ext cx="1676520" cy="53316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7"/>
          <p:cNvSpPr/>
          <p:nvPr/>
        </p:nvSpPr>
        <p:spPr>
          <a:xfrm flipV="1">
            <a:off x="3657600" y="4572000"/>
            <a:ext cx="1828800" cy="53352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3733920" y="5181480"/>
            <a:ext cx="1752480" cy="457200"/>
          </a:xfrm>
          <a:prstGeom prst="line">
            <a:avLst/>
          </a:prstGeom>
          <a:ln w="572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3448-CD68-453B-A8F1-0265B2C06F4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 Narrow"/>
              </a:rPr>
              <a:t>Programas de reforz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(a)  Programa de reforzamiento continu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(b)  Programa de reforzamiento intermi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ntervalo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Fi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Vari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Razón        Fi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                 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4191120" y="3124080"/>
            <a:ext cx="380880" cy="762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191120" y="4876920"/>
            <a:ext cx="380880" cy="761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B40F-599D-4B62-B578-D40BE8366B9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2.  La ge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Generalización de Rspta.            Generalización de Estí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C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C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C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800000"/>
                </a:solidFill>
                <a:latin typeface="Arial Narrow"/>
              </a:rPr>
              <a:t>	</a:t>
            </a:r>
            <a:r>
              <a:rPr b="1" lang="es-ES_tradnl" sz="1600" spc="-1" strike="noStrike">
                <a:solidFill>
                  <a:srgbClr val="800000"/>
                </a:solidFill>
                <a:latin typeface="Arial Narrow"/>
              </a:rPr>
              <a:t>	</a:t>
            </a:r>
            <a:r>
              <a:rPr b="1" lang="es-ES_tradnl" sz="1600" spc="-1" strike="noStrike">
                <a:solidFill>
                  <a:srgbClr val="800000"/>
                </a:solidFill>
                <a:latin typeface="Arial Narrow"/>
              </a:rPr>
              <a:t>	</a:t>
            </a:r>
            <a:r>
              <a:rPr b="1" lang="es-ES_tradnl" sz="1600" spc="-1" strike="noStrike">
                <a:solidFill>
                  <a:srgbClr val="800000"/>
                </a:solidFill>
                <a:latin typeface="Arial Narro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3.  La discri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d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C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(Reforzador)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"/>
          <p:cNvSpPr/>
          <p:nvPr/>
        </p:nvSpPr>
        <p:spPr>
          <a:xfrm flipV="1">
            <a:off x="2438280" y="1676520"/>
            <a:ext cx="11430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"/>
          <p:cNvSpPr/>
          <p:nvPr/>
        </p:nvSpPr>
        <p:spPr>
          <a:xfrm flipV="1">
            <a:off x="2438280" y="2057400"/>
            <a:ext cx="11430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2438280" y="2438280"/>
            <a:ext cx="11430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2438280" y="2438280"/>
            <a:ext cx="11430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6172200" y="1600200"/>
            <a:ext cx="10666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6172200" y="2057400"/>
            <a:ext cx="10666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6248520" y="2514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1"/>
          <p:cNvSpPr/>
          <p:nvPr/>
        </p:nvSpPr>
        <p:spPr>
          <a:xfrm flipV="1">
            <a:off x="6324480" y="2514600"/>
            <a:ext cx="9907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2666880" y="52578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4267080" y="5257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3D0D-F3C2-4FA7-B3C3-64C0CE84241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PE" sz="3200" spc="-1" strike="noStrike" u="sng">
                <a:solidFill>
                  <a:srgbClr val="800000"/>
                </a:solidFill>
                <a:uFillTx/>
                <a:latin typeface="Arial"/>
              </a:rPr>
              <a:t>OBJETIVO N° 1</a:t>
            </a:r>
            <a:r>
              <a:rPr b="1" lang="es-PE" sz="3200" spc="-1" strike="noStrike">
                <a:solidFill>
                  <a:srgbClr val="800000"/>
                </a:solidFill>
                <a:latin typeface="Arial"/>
              </a:rPr>
              <a:t>  </a:t>
            </a:r>
            <a:br>
              <a:rPr sz="3200"/>
            </a:br>
            <a:br>
              <a:rPr sz="1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000000"/>
                </a:solidFill>
                <a:latin typeface="Arial"/>
              </a:rPr>
              <a:t>DISCRIMINAR LOS DIFERENTES PROTOTIPOS EXPERIMENTALES DEL APRENDIZAJ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A30A-2FEE-4386-8864-6BDF25EE10B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62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4.  El molde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5. El encad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6. La inhib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2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662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800000"/>
                </a:solidFill>
                <a:latin typeface="Arial Narrow"/>
              </a:rPr>
              <a:t>7.  La signalización o cod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39780-FA6C-4DDD-9D74-7A14460260D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.  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 Narrow"/>
              </a:rPr>
              <a:t>Procesos  psicológicos  que  intervienen  en  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         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Arial Narrow"/>
              </a:rPr>
              <a:t>aprendiz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s-ES" sz="3200" spc="-1" strike="noStrike">
                <a:solidFill>
                  <a:srgbClr val="800000"/>
                </a:solidFill>
                <a:latin typeface="Arial Narrow"/>
              </a:rPr>
              <a:t>(a) Procesos Medi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os procesos mediadores son las actividades de recepción y análisis de la estimulación, de la regulación y de la dirección de la conducta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478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Narrow"/>
              </a:rPr>
              <a:t>     </a:t>
            </a:r>
            <a:r>
              <a:rPr b="1" lang="es-ES" sz="3200" spc="-1" strike="noStrike">
                <a:solidFill>
                  <a:srgbClr val="800000"/>
                </a:solidFill>
                <a:latin typeface="Arial Narrow"/>
              </a:rPr>
              <a:t>(b)  Variables Condicion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83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on aquellos factores del organismo, cuyas modificaciones afectan en algún sentido los procesos mediad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CCEE-C087-4307-81EA-3571CC266F0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esquema2"/>
          <p:cNvPicPr/>
          <p:nvPr/>
        </p:nvPicPr>
        <p:blipFill>
          <a:blip r:embed="rId1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  <p:sp>
        <p:nvSpPr>
          <p:cNvPr id="147" name="4 Marcador de pie de página"/>
          <p:cNvSpPr/>
          <p:nvPr/>
        </p:nvSpPr>
        <p:spPr>
          <a:xfrm>
            <a:off x="32767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D50B-66A6-4611-A062-696C9EA22D7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Narrow"/>
              </a:rPr>
              <a:t>(a)   Procesos Mediad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Sensación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Sensibilización a los agentes físic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Percepción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Representación figurativa de los hechos re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Pensamiento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Proceso de transformación y codificación de los hech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Motivación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Impulsión selectiva hacia ciertas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Ajuste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Proceso de organización y actualización de la conduc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Aprendizaje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Proceso de adquisición y conservación del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735840" indent="-370440" algn="just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Marlett" charset="2"/>
              <a:buChar char="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 Narrow"/>
              </a:rPr>
              <a:t>Personalidad</a:t>
            </a:r>
            <a:r>
              <a:rPr b="1" lang="es-ES" sz="2800" spc="-1" strike="noStrike">
                <a:solidFill>
                  <a:srgbClr val="000000"/>
                </a:solidFill>
                <a:latin typeface="Arial Narrow"/>
              </a:rPr>
              <a:t>:  Sistema estructurado o rasgos del compor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82A7-11AA-4F9F-9A7C-DC4B1ABA5CE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-54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2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 Narrow"/>
              </a:rPr>
              <a:t>(b) Variables Condicion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2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256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ebdings" charset="2"/>
              <a:buChar char="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ariables Fisioló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2560" algn="just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ebdings" charset="2"/>
              <a:buChar char="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ariables So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2560" algn="just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ebdings" charset="2"/>
              <a:buChar char="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ariables Patoló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2560" algn="just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Webdings" charset="2"/>
              <a:buChar char="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 Narrow"/>
              </a:rPr>
              <a:t>Variables Evolu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4109-ED76-4554-A1C8-CEA6FEF2B9B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800000"/>
                </a:solidFill>
                <a:latin typeface="Arial"/>
              </a:rPr>
              <a:t>¿QUÉ ES EL APRENDIZAJ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819520"/>
            <a:ext cx="8001000" cy="2286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336600"/>
            </a:solidFill>
            <a:miter/>
          </a:ln>
        </p:spPr>
        <p:txBody>
          <a:bodyPr anchor="t">
            <a:normAutofit/>
          </a:bodyPr>
          <a:p>
            <a:pPr lvl="1" marL="19044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cambio relativamente estable de la conducta que resulta del entrenamiento y la experienc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3BD9-E118-4DED-9A9D-53C0982BDAF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9907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800000"/>
                </a:solidFill>
                <a:latin typeface="Arial"/>
              </a:rPr>
              <a:t>¿QUÉ ES EL CONDICIONAMIEN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8001000" cy="3429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57240">
            <a:solidFill>
              <a:srgbClr val="336600"/>
            </a:solidFill>
            <a:miter/>
          </a:ln>
        </p:spPr>
        <p:txBody>
          <a:bodyPr anchor="t">
            <a:normAutofit/>
          </a:bodyPr>
          <a:p>
            <a:pPr lvl="1" marL="19044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00"/>
                </a:solidFill>
                <a:latin typeface="Arial"/>
              </a:rPr>
              <a:t>Es un procedimiento experimental en la medida que a través de la manipulación u organización de ciertas variables, van a generar los cambios en la conduc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551B-385E-41E1-856F-E914C897F46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PE" sz="3200" spc="-1" strike="noStrike">
                <a:solidFill>
                  <a:srgbClr val="800000"/>
                </a:solidFill>
                <a:latin typeface="Arial"/>
              </a:rPr>
              <a:t>TIPOS DE CONDICIONAMIEN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. CONDICIONAMIENTO CLÁS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. CONDICIONAMIENTO INSTRUMENTAL U OPER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 Narrow"/>
              </a:rPr>
              <a:t>III. CONDICIONAMIENTO OBSERV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B24E-DAB1-4CD7-87FD-4AE7D6E8E62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Narrow"/>
              </a:rPr>
              <a:t>I. CONDICIONAMIENTO CLASICO (PAVL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 Narrow"/>
              </a:rPr>
              <a:t>Aparato usado por Pavlov para el Condicionamiento Cl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perro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9419-238B-4353-AB00-42814A768EA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esquema0"/>
          <p:cNvPicPr/>
          <p:nvPr/>
        </p:nvPicPr>
        <p:blipFill>
          <a:blip r:embed="rId1"/>
          <a:stretch/>
        </p:blipFill>
        <p:spPr>
          <a:xfrm>
            <a:off x="571680" y="714240"/>
            <a:ext cx="784836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93EC-92A5-4CF4-AAA9-E59B648F228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219320"/>
            <a:ext cx="7543800" cy="4495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Arial Narrow"/>
              </a:rPr>
              <a:t>En suma, el </a:t>
            </a:r>
            <a:r>
              <a:rPr b="0" lang="es-PE" sz="3600" spc="-1" strike="noStrike" u="sng">
                <a:solidFill>
                  <a:srgbClr val="800000"/>
                </a:solidFill>
                <a:uFillTx/>
                <a:latin typeface="Arial Narrow"/>
              </a:rPr>
              <a:t>Condicionamiento Clásico</a:t>
            </a:r>
            <a:r>
              <a:rPr b="0" lang="es-PE" sz="3600" spc="-1" strike="noStrike">
                <a:solidFill>
                  <a:srgbClr val="000000"/>
                </a:solidFill>
                <a:latin typeface="Arial Narrow"/>
              </a:rPr>
              <a:t> 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7296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s-PE" sz="3600" spc="-1" strike="noStrike">
                <a:solidFill>
                  <a:srgbClr val="000000"/>
                </a:solidFill>
                <a:latin typeface="Arial Narrow"/>
              </a:rPr>
              <a:t>El tipo de aprendizaje en el cual un organismo aprende a transferir una respuesta natural ante un estímulo, a otro estímulo previamente neutral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28"/>
          <p:cNvSpPr/>
          <p:nvPr/>
        </p:nvSpPr>
        <p:spPr>
          <a:xfrm>
            <a:off x="762120" y="1219320"/>
            <a:ext cx="7619760" cy="44956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ECF9-6591-4129-BC57-47B490093AB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849600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II. CONDICIONAMIENTO INSTRUMENTAL U OPERANTE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.1.  La Caja de Trucos de Thorndik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2.2.  El Espacio Experimental Estándar de 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     Ski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r. José Anicama Gómez 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6:49:46Z</dcterms:created>
  <dc:creator>SERVER</dc:creator>
  <dc:description/>
  <dc:language>en-US</dc:language>
  <cp:lastModifiedBy>PC</cp:lastModifiedBy>
  <dcterms:modified xsi:type="dcterms:W3CDTF">2009-04-24T13:57:29Z</dcterms:modified>
  <cp:revision>44</cp:revision>
  <dc:subject/>
  <dc:title>Sin título de diapositiva</dc:title>
</cp:coreProperties>
</file>